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578-628D-4F8A-8530-6DA6D01A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511-B409-484D-B62D-75F3BAF3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916FF-A466-42DD-B9A9-F3EEE706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C600B-9ACD-4806-AAF2-DF516B2A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A09F7-5AA4-4B82-A566-ED23CBD2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6202D-2DBF-487C-AC7D-7CC5188E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98816-BD47-4DED-87A7-34B749C3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39D9C-F199-47CC-B142-FD45EC3F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24C2F-899A-4954-A49B-634309D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CCFB5-6D7F-4AA4-AD79-E27D7B13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7414E-61C5-411F-A7DE-3F3AE3ED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C2F46-399C-4176-A868-654B7735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890-B881-4A43-8BAE-D9861B91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DB215-88EE-4BC7-8ED8-056B4C45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61D7D-C745-4194-8F8E-764FE342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1B342-0CD9-48EF-8D7D-CA3A1E97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50F49-67F5-4E9F-8FC4-FCA73275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E1931-1888-439B-9575-8F9CB05F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9C399-2CB8-43D7-B227-1FD4E721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EE0AC-0283-42EA-A0CE-6B879B32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C6CEE-403B-46B0-8308-C5106A71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60E9F-4BC5-4A50-8F1D-C68C4D72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9719E-9288-4E49-BEAE-F832620C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AE6-1C13-4377-9F8D-FF846733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B3A11-3572-4819-8B00-2DDB30A6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322D2-C9E2-4759-8D00-6F8929CE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9E0AB-ABCF-4B12-B436-8BC422CB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BF2CC-F06A-4BF1-893F-1E44D646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DFE41-E9AD-431B-AB99-74119B1F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7597D-202E-4DA2-8DA0-8AC92A95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AAE85-7BBC-48AB-B6B0-663BC047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2F4BB-3E52-4263-B896-E18FBF2E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59456-D9C7-4024-BF0A-1FFF3D3F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B81EA-403F-4BB7-BAF7-5C40618D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A5D6-C616-4BD6-A813-41A6D897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25F2F-C292-4E1C-90A4-74D3D4C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F9015-85E1-4C36-8A81-B241D3F2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F6799-7154-453F-BA40-A283029D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F86E8-A93A-461C-89B2-B4FFBBB8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49B6A-670C-4344-A39F-CBABF14F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FF3D9-D7DB-4FFF-89B7-A4E04F12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4AC02-52D6-4B1F-98FF-D4459748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3A691-8B5C-42E3-932D-C3061D09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22FE9-BA45-4D1F-96A2-14B64513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3A4F6-21F6-4BEA-9A9B-913C8A71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1BBC-C60C-4BD3-8F2F-F4639D56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28A72-7A60-49DD-9B2A-CE023FDF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011FA-A72E-4A72-AAF4-DEF085A8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5BF09-BB9A-4D77-945A-4A6E095D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65EF8-AD2C-4EC8-8E6B-0C8C9E35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B8103-2DED-4DDC-A2E8-BF1C5BA6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59678-E7CC-4B72-ACC9-4A781610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D955B-48A8-484E-88B6-674CE7EA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1AFBB-91A7-426C-BC2E-C9824A4D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C981E-C757-4518-9985-06F171C2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1359B-4BC6-4607-BB6F-149DE057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9935-A318-4F17-9DF3-F9636BEB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93237-405D-44B3-BF41-800BABFA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D4A57-673E-4223-BED7-0C3593B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D8CBF-0DCA-4D5B-98A4-F69E7EB2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EDA52-1CF1-45FD-A440-741AE7A4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57932-2B94-48B0-A0A1-3413361F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649F8-1AC8-4354-A7E1-F704ACCB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AABC5-D173-4B06-872A-555C81EA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40745-561D-4608-8891-76D41EB6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4655E-D399-43D4-A3F7-CF70FF2A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85424-4652-428A-BE15-56917F6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2F93-42A6-4F35-BCEA-B1E7DCBA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960D5-A254-4FD7-B5F2-425F67E4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9142A-254D-4605-9856-41D38A04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15E3B-CCBA-4989-947A-6F65C30F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5FBE5-F0B9-4E75-AC6B-8CB76E07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D6EC9-21F3-49AB-A2CF-BB74E6A7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FE83F-F50B-46E7-8D6A-1D148C96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CADBE-9AFE-46C5-BFFC-34191EEE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D8CF4-440E-4763-86CB-EFAD4E99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B6951-B572-4E66-8BA4-80F426F1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F46EB-AC91-4ADC-BDE3-32290C14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AC0D-BCB9-4BD1-A1D7-26363874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C13B3-1995-4354-9E72-1A1E0976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E7F81-C25D-4B6B-812A-93728112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845589-9B07-41C2-B068-CC213500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1AD8E-D41C-42A5-B8EB-7643C78C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51C1D-C6AB-4B63-9F67-C57159BC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C5B52-2A46-4760-8914-3210D5E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7B86A-B667-4731-9B5A-68DD10F8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5E29C-6E30-4CD3-B00A-F9B8033D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BC0605-A520-4597-8434-F70F46A3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3E283-9295-4C95-AB80-C9763D97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AA90-0EC2-495A-B6DC-AE3BF087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4E1B3-6B73-4CC7-9D99-E486EC9A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4AF6F-0C20-4888-A873-3BE226C9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8945B-E489-4977-8262-9F3E45C5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9AA11-1B5A-4DB2-855C-DA1649AA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0F75B6-A3DD-4098-92DD-1F8CCB0A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A7D8B-2D41-4E48-83A2-0389EA56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DD5CFF-F023-413B-958B-C1C5347C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DCDAD0-0C96-4E04-B40F-F22122DF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3B7CC-4AAC-474A-AC25-5E0F86F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B2D80-DB57-4E8D-BEC1-B4640D16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AA50-8362-4507-B12D-B84AB7A2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7EBC2-60D3-4E31-9F2B-21A473C5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42DF6-2D9E-40BB-BCEE-8B5BFA94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C3B3A-99D2-4E19-9E12-BE0AC6D0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7344D-6264-49CA-B1B0-FF09A740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234878-C2BF-47AD-B147-5A1AB910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18F734-66D3-4AEF-A92E-0FD17551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B58F1-AF2D-43CB-BE8D-546360FD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9941B-F250-4500-84CD-2D620A8F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9C3E0-7D84-4173-9710-FF73372A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D9002-A849-40DA-AA20-6A9E445E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A44-D335-4FDA-94C0-8A34131B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2656-D099-4B05-B7E2-A1CAD5E7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45CFF-3E0E-4E5B-B831-B8CFC551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32D47-1A6D-44BA-980D-09499D40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10504-07DA-4D53-8A30-402DD1FC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A8AE83-1FF6-4D59-BE15-F81AC8D9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499955-9673-4E54-B777-94F6BC59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94991E-DEAD-4320-8A12-B3040DA2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14C90-29B9-4E58-B200-282C3114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B62568-FD46-4CE1-82F9-C3E9566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45A9F-C621-4078-8C41-DC97CF4F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D113B-1ADC-4A2B-B871-7ACDDDB5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9E60-389D-4E47-9EFF-AE68D805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D6709F-5ED0-4363-8EA0-8D22BB79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934EF-B66B-4662-9AB4-5923FBA2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BE2BC-953E-4921-B4EF-6D7E41F2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DF8CC7-23FB-468F-99FA-8B6F6B72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6C50D-8E28-41FA-A101-BED33FA4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5A3E7-7417-4190-89FA-B6C2A851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04640-8918-4717-A650-BCA188D6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9989A-3D05-42B2-9E6A-90ED1961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3CD42-2D35-4AA6-A989-73DB60F5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0E9F4E-37D3-4475-A841-A81BD278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5D83-95E3-499A-865E-A41F40BC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3D9110-1057-420B-B49C-EF417101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3927B-7FE6-4519-9AAB-62E0BC9B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79EFC-6B99-459E-8F13-D1C93F53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CDA6A-A8B5-4BC6-9E44-0BC89402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B5AF31-E819-4B84-97A2-A9107D32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54291A-1A5B-4AD1-9D8B-08208CE2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E73B6-BFB5-4AAD-939A-F789BF9D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522579-D3A2-46E4-A710-10B1D438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75D32-382A-4558-BC1C-73A1444C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E391D1-B322-47AA-B6A5-5EEE3C16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663E-CEF5-4DF0-80E9-5DCEBC50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A46543-4C7E-4B83-A1B8-1C50869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5845B-4629-4B82-A486-75B8B2DA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2E1C0-9CD7-40B5-9ECC-969C2DFF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0139CB-8B47-4512-B852-DD203E1A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A519B6-CDBE-4941-83D6-D41F180D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D060F-27E5-48BE-8CD4-751E32D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DEA91-2109-4849-8D41-CE59D222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3DEE7-94CC-4716-A83A-05B2D53C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621CC-A251-49A9-BA24-0C1CC18E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C0EBDF-073F-4631-B23B-CA9A623B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A6A8-EB11-4564-BBEF-2D83807A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0E4D3-E9D2-42C9-BEA9-CB523C4B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186752-E407-43AA-8B23-70799C6B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256C96-8B8E-4080-8B17-6C018412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18308D-45C2-45B7-877E-55472C6D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C2F3CD-F012-4964-840B-4904AC85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9FEE48-2313-429F-AD2C-8EED5F73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CBC25C-90D3-48CE-92BC-D59A1030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4F7F83-F33B-413E-AD02-FD1BF9E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0AD134-EAC3-41E3-9907-4DF48E51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D85495-5DF4-4707-B3C7-FBDAD3C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6CAF-AEBF-475E-8FC3-6D9C9E16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52E950-FB9F-40AF-BA72-C90322B4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8119F-2AA4-4626-96AE-1ABEC6E5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88550E-E7F2-410D-91D6-1FE47700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3F59-4981-470B-9ECA-5448A40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2055-8279-4472-AB52-B6EA8B15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6F35-F9D4-49AD-96D6-DC46D958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1BFD-921D-4CAC-8D3B-19ECAB2D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A60-1A36-4603-BE43-CC39B283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6654-AEB0-4DAA-9B16-8FD38BE7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29B8C-C86F-4E38-8547-4BE0257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6261-07CE-40FA-8B26-3040E107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663E7-634A-4D3E-BA9C-05C84D7F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10C9-8266-4EBA-BF41-23960809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0972-5F5F-46B9-86D8-E0D342A4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FEE4-E3B9-44EF-91C6-7CF633F4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097BC-DEE1-4E06-B812-6A7B119E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8194-AF4E-490C-81E9-3243B2ED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34DE-AD52-4C81-BCC1-A691C07E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02C-EDAA-474A-ADEE-DE3ED5B2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F34A-A9F0-424A-999E-DFB5321A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2A224-55E4-4E99-9967-55178F35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DA085-C477-4EAC-B34E-F797A450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EB6B-71CC-43D0-875D-EB165655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9E25-2D87-46ED-9B22-69D977D6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6B162-C90D-4A4E-9CFA-7A31F9DE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2DC4-7199-42F9-AF8B-6855108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28E5B-05E9-4A62-A41D-74D3D03D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782C6-AE96-4B99-BDB8-267CCD2D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B4F2E-58A8-4930-BA96-B0BACBE7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852-6DF4-4ADA-BE7C-97E0B992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9359E-B422-47AE-B420-0FEE871E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D0DF0-52D0-47C5-97AA-A5D95FF5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7CC1D-1782-4A46-BD27-F59B8489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02850-08D4-4D08-AD81-C5876EB0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C7C50-CC2E-48B0-AED0-6FA9E501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B286-DE80-4C90-A9F2-CA0EEC32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1BD1-1A86-4437-9B9B-CD783A68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95F13-53C9-41BD-8186-441E6EBC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10CD6-4F57-459E-8B89-CFE9C1CA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254B-E20D-4C07-8702-94003C13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606-1695-4FF1-A300-71AB903C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34544-204D-402B-90A6-574A721A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D7C7D-545B-417A-8538-76B094AF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C16B5-5955-42B5-A80D-8F142A4E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F5CEC-9237-416C-BD50-EBE99727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92ABC-7AF5-4712-8A6F-73774995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005E2-21FB-44AD-99CF-A77BB380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94066-0BD2-4E67-800C-325AF7E8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B4A91-A3AA-4609-92E9-FDE5FF6F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DF26-C214-4651-BE14-79D9E533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77F18-563D-49E3-9660-38E8E385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597-B26A-4541-80F2-72DCA47D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C2496-212E-469C-9506-BE8E4ECE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5810E-879F-4BA0-8E60-9BB5BFBD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02189-114D-4222-8C2F-1953720D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7260B-1398-4736-93A1-5461AB76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6C8C2-7A00-46CC-B504-2A9D8DB8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DAAB7-067F-4C1E-A5F0-8160DBFC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D45B-09E6-4828-B8ED-23194017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50105-590A-431E-BED7-142C9EBF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536FE-02D1-4742-B380-88905BB0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DA7F1-E4EA-45F5-806A-86FC5710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546-5F4C-4389-B885-5A3C593C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AE8FC-93C3-4156-BEBB-6E1B96B7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949CC-3E4E-4AEB-BBD0-16751B7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5FDC3-2C8E-4A49-B3C2-D1FEE91E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D0B98-5322-4345-A728-9F846FD7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B4254-6A2A-4804-BD0B-2A1325FC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1C080-ACED-4DFC-950D-DCBE264A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56838-E373-47C9-ADAE-74FB7996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37E44-9B1B-49C0-8A79-3FB3E7CD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64468-A992-477F-8449-31E1160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F658F-8126-4D69-8381-E2E344BF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7CC-5526-47D9-9B95-FC3121D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4576C-222D-4B85-A2ED-7894C9E8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20A81-BE7E-4D3E-9C78-EDBA9367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7F1F0-09C2-4404-B0F7-08626BD7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DFA20-33B6-4256-817D-988FCCCA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3488C-69F1-4452-80AD-E9E8E673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693E6-D67B-445C-8A4E-C19A7653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87C7F-0B7E-46E1-A85E-CC018BC7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2F142-45B3-43AB-809C-3AB05237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6C078-0EE2-4A38-98E2-8193FC6A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6A8E6-9FFF-4D46-B861-B4B29A2C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7E1B-71CA-4716-ABED-6674957658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52CD-0CAD-4501-97DA-5DF4FC643A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905B-BB4E-4452-A9A8-01D7365D77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C950-99E7-42D6-9036-96B1CB6B8F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9540-B786-4B42-9D32-FBE9B8F6E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2984-8DE6-432E-B923-5C07F2F384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F55C-B14F-46C5-AFCF-0F2D82C31E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07F4-7D89-4799-B523-51546F5197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5EDD-3466-4435-96B4-379FAAA4C6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ECDA-ED23-41B9-8940-5B63702C53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53BE-BA34-427D-85F6-8887BE12B2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5B35-E792-4576-96D8-0147AE2ABF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7A7D-F84F-49AC-A079-F395CFCE95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5C39-DD65-4C5B-AE17-1A7C80F86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F464-9837-456D-9A9A-2CD21AA0D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2054-42AF-40FE-80EC-06180363BC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5941-F676-49BF-A626-5B7258EC5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3065-F7A6-4062-8601-F5F08A3FC7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D9AF-82AB-475E-9B0E-CCA19284A5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F819-6C68-4284-9434-00044C2970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AEA2-611A-4859-80B2-73CEADC64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195F-CAC0-445C-A822-7B8124B870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C16A-237E-446D-9DBE-D9464C5789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9CCF-986D-4E78-9178-980CA0D6D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9A58-BD8D-4837-831D-63372ED06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5F52-4700-4227-B1FF-AC4EC09781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AEFF-3120-4A44-BB8F-BDBEC10519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C5DC-FC06-4A2F-A1AF-DBDA245903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86F9-2718-4A59-9D3C-6C6AE0B376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FAA7-A03A-416B-9815-E6D8277C4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16D6-06F0-4535-B50A-D134D60DEF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23DF-144F-4371-B6A7-262CBB4F9D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46B8-4F07-4865-80B8-5A663F5631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EBBB-2E84-4B27-ACD5-68FB93A709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0E50-FF4D-42AC-9BA9-22E92DF060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C1C8-775F-4BD2-BC18-90B4D0DE06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F93D-218F-45EF-9662-418C3E4D2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D98F-546B-4960-A334-5CF9F5B6AE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E4DE-A3D8-4085-9BAB-C0623C8D4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C959-DAC2-4C78-915A-885259DB01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33600" y="3181320"/>
            <a:ext cx="42768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988920"/>
            <a:ext cx="8839440" cy="5248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89360" y="2482920"/>
            <a:ext cx="303120" cy="269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510080" y="249228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273640" y="249228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021360" y="249228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775560" y="2482920"/>
            <a:ext cx="303120" cy="269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543800" y="2482920"/>
            <a:ext cx="303120" cy="269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258920" y="3448080"/>
            <a:ext cx="865080" cy="270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132000" y="3429000"/>
            <a:ext cx="303480" cy="270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435640" y="342900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956720" y="3438360"/>
            <a:ext cx="647640" cy="270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826920" y="3860640"/>
            <a:ext cx="303480" cy="270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597120" y="3860640"/>
            <a:ext cx="865440" cy="270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5580000" y="3860640"/>
            <a:ext cx="647640" cy="270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7451640" y="386064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1312920" y="472428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1258920" y="5103720"/>
            <a:ext cx="1225440" cy="270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3473280" y="4714920"/>
            <a:ext cx="303480" cy="270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3419640" y="5094360"/>
            <a:ext cx="1225440" cy="269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5634000" y="470520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5580000" y="5084640"/>
            <a:ext cx="1225440" cy="2700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7794720" y="471492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7740720" y="5094360"/>
            <a:ext cx="1225440" cy="2696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4"/>
          <a:stretch/>
        </p:blipFill>
        <p:spPr>
          <a:xfrm>
            <a:off x="1308240" y="5516640"/>
            <a:ext cx="303120" cy="269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5"/>
          <a:stretch/>
        </p:blipFill>
        <p:spPr>
          <a:xfrm>
            <a:off x="1254240" y="5896080"/>
            <a:ext cx="1225440" cy="269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6"/>
          <a:stretch/>
        </p:blipFill>
        <p:spPr>
          <a:xfrm>
            <a:off x="3468600" y="5506920"/>
            <a:ext cx="303480" cy="270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7"/>
          <a:stretch/>
        </p:blipFill>
        <p:spPr>
          <a:xfrm>
            <a:off x="3414600" y="5886360"/>
            <a:ext cx="1225800" cy="270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8"/>
          <a:stretch/>
        </p:blipFill>
        <p:spPr>
          <a:xfrm>
            <a:off x="5629320" y="549756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9"/>
          <a:stretch/>
        </p:blipFill>
        <p:spPr>
          <a:xfrm>
            <a:off x="5575320" y="5877000"/>
            <a:ext cx="1225440" cy="269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0"/>
          <a:stretch/>
        </p:blipFill>
        <p:spPr>
          <a:xfrm>
            <a:off x="7790040" y="5506920"/>
            <a:ext cx="303120" cy="2700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1"/>
          <a:stretch/>
        </p:blipFill>
        <p:spPr>
          <a:xfrm>
            <a:off x="7736040" y="5886360"/>
            <a:ext cx="122544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9410" descr=""/>
          <p:cNvPicPr/>
          <p:nvPr/>
        </p:nvPicPr>
        <p:blipFill>
          <a:blip r:embed="rId1"/>
          <a:stretch/>
        </p:blipFill>
        <p:spPr>
          <a:xfrm>
            <a:off x="152280" y="754200"/>
            <a:ext cx="8839440" cy="59148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341964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1619280" y="3573360"/>
            <a:ext cx="1440000" cy="319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5364000" y="3227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6516720" y="3227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7667640" y="3227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9"/>
          <a:stretch/>
        </p:blipFill>
        <p:spPr>
          <a:xfrm>
            <a:off x="5867280" y="3587760"/>
            <a:ext cx="1440000" cy="31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0"/>
          <a:stretch/>
        </p:blipFill>
        <p:spPr>
          <a:xfrm>
            <a:off x="3780000" y="61945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1"/>
          <a:stretch/>
        </p:blipFill>
        <p:spPr>
          <a:xfrm>
            <a:off x="4500720" y="61945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2"/>
          <a:stretch/>
        </p:blipFill>
        <p:spPr>
          <a:xfrm>
            <a:off x="5219640" y="61801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3"/>
          <a:stretch/>
        </p:blipFill>
        <p:spPr>
          <a:xfrm>
            <a:off x="5940360" y="61801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4"/>
          <a:stretch/>
        </p:blipFill>
        <p:spPr>
          <a:xfrm>
            <a:off x="6732720" y="61801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5"/>
          <a:stretch/>
        </p:blipFill>
        <p:spPr>
          <a:xfrm>
            <a:off x="7451640" y="61801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6"/>
          <a:stretch/>
        </p:blipFill>
        <p:spPr>
          <a:xfrm>
            <a:off x="8172360" y="619452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5:1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